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345960"/>
            <a:ext cx="80769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629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5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8.xml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880" y="1754280"/>
            <a:ext cx="77706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Figures of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6111720" y="5940360"/>
            <a:ext cx="785880" cy="9176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917640"/>
              <a:gd name="textAreaBottom" fmla="*/ 866880 h 91764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7550280" y="5940360"/>
            <a:ext cx="785520" cy="91764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917640"/>
              <a:gd name="textAreaBottom" fmla="*/ 866880 h 917640"/>
            </a:gdLst>
            <a:ahLst/>
            <a:rect l="textAreaLeft" t="textAreaTop" r="textAreaRight" b="textAreaBottom"/>
            <a:pathLst>
              <a:path w="21600" h="25231">
                <a:moveTo>
                  <a:pt x="0" y="0"/>
                </a:moveTo>
                <a:lnTo>
                  <a:pt x="21600" y="0"/>
                </a:lnTo>
                <a:lnTo>
                  <a:pt x="21600" y="25231"/>
                </a:lnTo>
                <a:lnTo>
                  <a:pt x="0" y="25231"/>
                </a:lnTo>
                <a:close/>
              </a:path>
              <a:path fill="lightenLess" w="21600" h="252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1">
                <a:moveTo>
                  <a:pt x="21600" y="0"/>
                </a:moveTo>
                <a:lnTo>
                  <a:pt x="21600" y="25231"/>
                </a:lnTo>
                <a:lnTo>
                  <a:pt x="20200" y="23831"/>
                </a:lnTo>
                <a:lnTo>
                  <a:pt x="20200" y="1400"/>
                </a:lnTo>
                <a:close/>
              </a:path>
              <a:path fill="darkenLess" w="21600" h="25231">
                <a:moveTo>
                  <a:pt x="21600" y="25231"/>
                </a:moveTo>
                <a:lnTo>
                  <a:pt x="0" y="25231"/>
                </a:lnTo>
                <a:lnTo>
                  <a:pt x="1400" y="23831"/>
                </a:lnTo>
                <a:lnTo>
                  <a:pt x="20200" y="23831"/>
                </a:lnTo>
                <a:close/>
              </a:path>
              <a:path fill="lighten" w="21600" h="25231">
                <a:moveTo>
                  <a:pt x="0" y="252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ets use metaphors to make the reader think about new ways of seeing th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505320"/>
            <a:ext cx="601956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y heart it was a floating bird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at through the world did wander free,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But he hath locked it in a cage,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And lost the silver ke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Prince” by Josephine Dodge Dask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28480" y="2286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is the poet trying to say with this metaph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95480" y="289548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5089.JPG"/>
          <p:cNvPicPr/>
          <p:nvPr/>
        </p:nvPicPr>
        <p:blipFill>
          <a:blip r:embed="rId4"/>
          <a:srcRect l="0" t="21424" r="0" b="0"/>
          <a:stretch/>
        </p:blipFill>
        <p:spPr>
          <a:xfrm>
            <a:off x="6621480" y="3124080"/>
            <a:ext cx="1989000" cy="2362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irect metapho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directly compares two things using a verb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28480" y="2362320"/>
            <a:ext cx="4588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is ideas were a flock of birds in fl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28480" y="3809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direct metapho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mplies or suggests the comparis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28480" y="4724280"/>
            <a:ext cx="808200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is ideas spread their wings and soared fre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152640" cy="10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66880" y="441972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6011.JPG"/>
          <p:cNvPicPr/>
          <p:nvPr/>
        </p:nvPicPr>
        <p:blipFill>
          <a:blip r:embed="rId5"/>
          <a:stretch/>
        </p:blipFill>
        <p:spPr>
          <a:xfrm>
            <a:off x="5943600" y="1981080"/>
            <a:ext cx="2666880" cy="1764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553080" y="14479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 metaphor as either direct or indirect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281952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60020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is computer is a dinosau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he stared at me with venomous eyes and hissed out her rep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276720"/>
            <a:ext cx="5029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old motorcycle barked and yipped before it started up with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ow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5720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day my mind is the wind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lowing across rolling hi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14479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metaphor as either direct or indirect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00200"/>
            <a:ext cx="502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is computer is a dinosau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he stared at me with venomous eyes and hissed out her rep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276720"/>
            <a:ext cx="5029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old motorcycle barked and yipped before it started up with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how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day my mind is the wind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lowing across rolling hi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1523880"/>
            <a:ext cx="121932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ir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495680"/>
            <a:ext cx="121932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ir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2209680"/>
            <a:ext cx="121932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ir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200400"/>
            <a:ext cx="121932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direc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special kind of metaphor in which human qualities are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give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omething that is not human—an animal, an object, or an id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2895480"/>
            <a:ext cx="8082000" cy="190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sun was shining on the sea, 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Shining with all his migh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e did his very best to make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billows smooth and br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Walrus and the Carpenter” by Lewis Car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153280" y="228600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36180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51528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6002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pring caresses the earth and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ky with her warm, delicate han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1447920"/>
            <a:ext cx="2514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figure of spee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315432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r friendship is as comfortable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a pair of flannel paja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64832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old factory had become a heaving, grunting be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60020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pring caresses the earth and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ky with her warm, delicate han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1447920"/>
            <a:ext cx="2514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each figure of spee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286000"/>
            <a:ext cx="205740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15432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ur friendship is as comfortable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a pair of flannel paja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648320"/>
            <a:ext cx="5029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old factory had become a heaving, grunting be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3809880"/>
            <a:ext cx="121932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m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334120"/>
            <a:ext cx="144792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137016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re widely used. Look through a newspaper or magazine, including the advertisements, and gather at least six figures of speech. Look for examples of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similes, metaphor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ersonific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622160" cy="339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51528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0769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594360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igure of speech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ord or phrase that makes a comparison between seemingly unlike th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622600"/>
            <a:ext cx="7772400" cy="11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He collapsed onto the grass like a half-empty flour sa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Scarlet Ibis” by James Hur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343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’ll come across figures of speech—or figurative language—in poetry, in prose, and in everyday speaking and writ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772400" y="195588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1880" y="3664080"/>
            <a:ext cx="152640" cy="10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37160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not literally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467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imaginative conn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0160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ress meaning in fresh and original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9304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ften act as a kind of short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5334" r="0" b="0"/>
          <a:stretch/>
        </p:blipFill>
        <p:spPr>
          <a:xfrm>
            <a:off x="6480000" y="1447920"/>
            <a:ext cx="2130480" cy="304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3600" y="26668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76720" y="3632040"/>
            <a:ext cx="152280" cy="10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3701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 figures of speech have become part of our everyday language. We don’t even think about the fact that they aren’t literally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8120"/>
            <a:ext cx="7543800" cy="229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e didn’t notice how quickly the time 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flew b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y heart leapt at the thou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She must have gotten tied up in traff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is room is a pigs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DC00002E.JPG"/>
          <p:cNvPicPr/>
          <p:nvPr/>
        </p:nvPicPr>
        <p:blipFill>
          <a:blip r:embed="rId3"/>
          <a:stretch/>
        </p:blipFill>
        <p:spPr>
          <a:xfrm>
            <a:off x="6400800" y="2819520"/>
            <a:ext cx="2209680" cy="1476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igures of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51528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imil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comparison between two unlike things, using a word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, as, than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resem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528480" y="3505320"/>
            <a:ext cx="51055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dew on the leaves glistened as brilliantly as loose diamonds on sil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528480" y="4495680"/>
            <a:ext cx="51055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at child’s eyes are warmer than the summer’s sandy bea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528480" y="2514600"/>
            <a:ext cx="51055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lone oak tree stood in the front yard like an aged but dedicated sent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458200" y="19810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52280" cy="1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00800" y="2438280"/>
            <a:ext cx="2065320" cy="3124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324480" y="150660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two similes in this excer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259092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24480" y="335268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meaning is expressed by each simi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4956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52280" cy="10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600200"/>
            <a:ext cx="5638680" cy="413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mother has the prettiest trick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words and words and words.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talk comes out as smooth and sleek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breasts of singing bi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 . . . . . . . . . . . . . . . . . . . .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had not dreamed these things were so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sorrow and of mi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speech is as a thousand eye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ough which we see the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s for my Mother” by Anna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Hempstead Bra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51528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5638680" cy="413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mother has the prettiest trick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words and words and words.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talk comes out as smooth and sleek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breasts of singing bi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 . . . . . . . . . . . . . . . . . . . .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had not dreamed these things were so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sorrow and of mi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speech is as a thousand eye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ough which we see the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s for my Mother” by Anna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Hempstead Bra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819520"/>
            <a:ext cx="51818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200400"/>
            <a:ext cx="35053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724280"/>
            <a:ext cx="43434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105520"/>
            <a:ext cx="426744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50660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two similes in this excer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324480" y="2590920"/>
            <a:ext cx="2286000" cy="1008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he has a beautiful, soothing vo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733920"/>
            <a:ext cx="2286000" cy="16185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mother’s words influence the children’s perceptions of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imil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17000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00200"/>
            <a:ext cx="5638680" cy="413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y mother has the prettiest trick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words and words and words.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talk comes out as smooth and sleek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s breasts of singing bi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 . . . . . . . . . . . . . . .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e had not dreamed these things were so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f sorrow and of mi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r speech is as a thousand eyes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rough which we see the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1880"/>
                <a:tab algn="l" pos="8618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—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Songs for my Mother” by Anna 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Hempstead Bra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1700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19520"/>
            <a:ext cx="51818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200400"/>
            <a:ext cx="35053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724280"/>
            <a:ext cx="43434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105520"/>
            <a:ext cx="426744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50804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meaning is expressed by each simi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60199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137160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parison between two unlike things in which one thing becomes the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28480" y="3505320"/>
            <a:ext cx="427212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The flood waters rose, and the river became a ravenous monster. Raging on for hours, it consumed everything in its sigh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28480" y="2841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0440" indent="-3459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not use a word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k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152280" cy="101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238880" y="3048120"/>
            <a:ext cx="152640" cy="10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31255.JPG"/>
          <p:cNvPicPr/>
          <p:nvPr/>
        </p:nvPicPr>
        <p:blipFill>
          <a:blip r:embed="rId4"/>
          <a:stretch/>
        </p:blipFill>
        <p:spPr>
          <a:xfrm>
            <a:off x="4952880" y="3505320"/>
            <a:ext cx="3657600" cy="2417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45960"/>
            <a:ext cx="80769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etaphor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SJW</dc:creator>
  <dc:description/>
  <dc:language>en-US</dc:language>
  <cp:lastModifiedBy>stevenh</cp:lastModifiedBy>
  <cp:lastPrinted>2004-11-19T20:17:12Z</cp:lastPrinted>
  <dcterms:modified xsi:type="dcterms:W3CDTF">2006-04-13T20:03:16Z</dcterms:modified>
  <cp:revision>108</cp:revision>
  <dc:subject/>
  <dc:title>Elements of Literature:Figures of Speech</dc:title>
</cp:coreProperties>
</file>